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C34-8ABE-4D57-A941-02947DEF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874-16C3-43D5-AEF6-C7345F6D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969-43F5-4229-8D35-07CE7A2F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535-B4FD-45B6-9A5D-B78D7AC1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5B6-2C3D-4591-AE71-81974A6C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354-1F85-42B8-BE9D-514B9623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253-5E85-4D98-8E55-2E2E0B07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5EF-93AB-4314-9628-68547CAD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2CC-B42D-4CA3-A618-C35A2953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ABDD-CB5D-43B3-877F-51BD5214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A19-9DF7-4DAD-92CD-36F7AB84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CA5-D127-49F8-9370-7943F091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47F4-2095-4472-8970-6A463250F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take a trip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s and we are here to tell  you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from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s is 142 million miles from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take 250 days to travel to 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077320" cy="38862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s is made up of carbon Diox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possible to surviv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s is terrestrial which means its made of rock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3886200" cy="220968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s is 78,300,000 miles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s are 7 month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y on mars is 686 days Yes there storms on 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4572000" cy="266688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ars you would weigh 104 compared to 96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you will not be able to survive on 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traveled to mars you would have to explore around mars. Also you will see a lot of red on 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s is not something you would want to live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on mars there are evidence that there is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3809880" cy="358128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010280" cy="6510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78272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ff"/>
                </a:solidFill>
                <a:latin typeface="Arial"/>
              </a:rPr>
              <a:t>B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57400" y="3200400"/>
            <a:ext cx="5410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scar and Chantel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2:29:42Z</dcterms:created>
  <dc:creator>Jeff Lewis</dc:creator>
  <dc:description/>
  <dc:language>en-US</dc:language>
  <cp:lastModifiedBy>teacher</cp:lastModifiedBy>
  <dcterms:modified xsi:type="dcterms:W3CDTF">2008-10-22T03:08:36Z</dcterms:modified>
  <cp:revision>18</cp:revision>
  <dc:subject/>
  <dc:title>Name of your planet here</dc:title>
</cp:coreProperties>
</file>